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22E5-9074-4ABC-B8E7-856B2F154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6D80-8CC9-42A7-9F0B-32E42E1E3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1215-3283-4A20-A57A-9F32A66FA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41E0-EF89-4C87-AEAA-D8A58FDE2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0D0E-FB92-4C23-8B24-B931958A8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1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6D28-E22E-458E-BB4D-8BB55A30E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EFD7-AC8F-42B1-B03F-62479ECF6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5000-4203-4FA9-A7FB-73F32EF85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2779-11C4-4E71-96EE-03C77A0B8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1AAA-A2A8-4750-A7C2-5C3F99223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Разработка буклета «Музыкальная аптечка», запись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A7E6-7F3A-4444-9A42-CABEE09926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BB8B-9585-44A6-AC14-A0E7CA152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0AC3-6F2F-4287-B7A9-08CB923FF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DF0B-A2FF-4F45-806C-3CAB7762A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7BFF-4DC4-4B28-B235-A45782402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лассическая музык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BB5D-832B-41A5-AA04-725F71BCAB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91B5-8740-4E65-A357-E78C67F76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61CE-6D2E-4175-AEAE-25B88EF8B9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497-B249-4774-B3A9-098208D4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F5B-818A-41C3-969A-65D8B99D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402-6E3F-4968-9E3F-D1BBFAB4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AEC-2E3A-4D0E-90E8-517CE024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901-F1E3-47A3-BAC0-C7535D58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6B1-C6FF-4902-BD7F-66C66375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A07-C5D7-4F51-8607-C5C6028C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BA8-C86A-4371-A81B-5C11606A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1F2-93C2-4809-8AAB-1623E0B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332-BE5E-46D6-98D5-4B2ACF9C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265-03A9-4EC2-A14C-388B8311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02C-FFE6-4637-969D-29E0DA11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4158-5750-4C55-B6BE-FA37CEBD1D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5B69-050E-4662-A3D1-4C0D3D248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Администратор\Мои документы\Мои рисунки\Музыка\335558.jpg"/>
          <p:cNvPicPr/>
          <p:nvPr/>
        </p:nvPicPr>
        <p:blipFill>
          <a:blip r:embed="rId1"/>
          <a:stretch/>
        </p:blipFill>
        <p:spPr>
          <a:xfrm>
            <a:off x="0" y="0"/>
            <a:ext cx="9725040" cy="6972480"/>
          </a:xfrm>
          <a:prstGeom prst="rect">
            <a:avLst/>
          </a:prstGeom>
          <a:ln w="0">
            <a:noFill/>
          </a:ln>
        </p:spPr>
      </p:pic>
      <p:pic>
        <p:nvPicPr>
          <p:cNvPr id="49" name="Схема 5" descr=""/>
          <p:cNvPicPr/>
          <p:nvPr/>
        </p:nvPicPr>
        <p:blipFill>
          <a:blip r:embed="rId2"/>
          <a:stretch/>
        </p:blipFill>
        <p:spPr>
          <a:xfrm>
            <a:off x="1073160" y="4694400"/>
            <a:ext cx="7143840" cy="177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3480" y="418680"/>
            <a:ext cx="7673400" cy="20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4220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лыбающееся лицо 2"/>
          <p:cNvSpPr/>
          <p:nvPr/>
        </p:nvSpPr>
        <p:spPr>
          <a:xfrm>
            <a:off x="571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"/>
          <p:cNvSpPr/>
          <p:nvPr/>
        </p:nvSpPr>
        <p:spPr>
          <a:xfrm>
            <a:off x="4000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4"/>
          <p:cNvSpPr/>
          <p:nvPr/>
        </p:nvSpPr>
        <p:spPr>
          <a:xfrm>
            <a:off x="221472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5"/>
          <p:cNvSpPr/>
          <p:nvPr/>
        </p:nvSpPr>
        <p:spPr>
          <a:xfrm>
            <a:off x="571500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6"/>
          <p:cNvSpPr/>
          <p:nvPr/>
        </p:nvSpPr>
        <p:spPr>
          <a:xfrm>
            <a:off x="757224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d1a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лыбающееся лицо 3"/>
          <p:cNvSpPr/>
          <p:nvPr/>
        </p:nvSpPr>
        <p:spPr>
          <a:xfrm>
            <a:off x="57168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"/>
          <p:cNvSpPr/>
          <p:nvPr/>
        </p:nvSpPr>
        <p:spPr>
          <a:xfrm>
            <a:off x="2214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5"/>
          <p:cNvSpPr/>
          <p:nvPr/>
        </p:nvSpPr>
        <p:spPr>
          <a:xfrm>
            <a:off x="385776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6"/>
          <p:cNvSpPr/>
          <p:nvPr/>
        </p:nvSpPr>
        <p:spPr>
          <a:xfrm>
            <a:off x="5643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8"/>
          <p:cNvSpPr/>
          <p:nvPr/>
        </p:nvSpPr>
        <p:spPr>
          <a:xfrm>
            <a:off x="7429680" y="4643280"/>
            <a:ext cx="1071360" cy="1143000"/>
          </a:xfrm>
          <a:prstGeom prst="smileyFace">
            <a:avLst>
              <a:gd name="adj" fmla="val -465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8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2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857160" y="2142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06eb1b220bb"/>
          <p:cNvPicPr/>
          <p:nvPr/>
        </p:nvPicPr>
        <p:blipFill>
          <a:blip r:embed="rId1"/>
          <a:stretch/>
        </p:blipFill>
        <p:spPr>
          <a:xfrm>
            <a:off x="2000160" y="1214280"/>
            <a:ext cx="5357880" cy="53578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g_3" descr="http://moikompas.ru/img/compas/2009-07-14/muzikoterapiya/267215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389736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642960" y="2178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rot="5400000">
            <a:off x="2083320" y="-440640"/>
            <a:ext cx="5072040" cy="8239320"/>
          </a:xfrm>
          <a:prstGeom prst="foldedCorner">
            <a:avLst>
              <a:gd name="adj" fmla="val 1246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Documents and Settings\Администратор\Рабочий стол\Мои документы\Работа ХР\РАБОТА 2009-2010\ДЕНЬ МУЗЫКИ\НОВОЕ СКАНИРОВАНИЕ\Рисунок1.jpg"/>
          <p:cNvPicPr/>
          <p:nvPr/>
        </p:nvPicPr>
        <p:blipFill>
          <a:blip r:embed="rId1"/>
          <a:stretch/>
        </p:blipFill>
        <p:spPr>
          <a:xfrm>
            <a:off x="5000760" y="1357200"/>
            <a:ext cx="3463920" cy="445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ocuments and Settings\Администратор\Рабочий стол\Мои документы\Работа ХР\РАБОТА 2009-2010\МУЗЫКОТЕРАПИЯ\Влиягние музыки на человека\доктор.jpg"/>
          <p:cNvPicPr/>
          <p:nvPr/>
        </p:nvPicPr>
        <p:blipFill>
          <a:blip r:embed="rId2"/>
          <a:stretch/>
        </p:blipFill>
        <p:spPr>
          <a:xfrm>
            <a:off x="1131840" y="1428840"/>
            <a:ext cx="3654360" cy="42148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214800" y="63579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иложение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ocuments and Settings\Администратор\Рабочий стол\Мои документы\Работа ХР\РАБОТА 2009-2010\МУЗЫКОТЕРАПИЯ\Влиягние музыки на человека\солнце.jpg"/>
          <p:cNvPicPr/>
          <p:nvPr/>
        </p:nvPicPr>
        <p:blipFill>
          <a:blip r:embed="rId1"/>
          <a:stretch/>
        </p:blipFill>
        <p:spPr>
          <a:xfrm>
            <a:off x="1714680" y="357120"/>
            <a:ext cx="5500440" cy="5218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343440" y="5344200"/>
            <a:ext cx="85993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999800"/>
            <a:ext cx="83008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зработка буклета «Музыкальная аптечка», запись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3071880"/>
            <a:ext cx="89726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Администратор\Рабочий стол\Мои документы\Работа ХР\РАБОТА 2009-2010\ДЕНЬ МУЗЫКИ\античная музыу.jpg"/>
          <p:cNvPicPr/>
          <p:nvPr/>
        </p:nvPicPr>
        <p:blipFill>
          <a:blip r:embed="rId1"/>
          <a:srcRect l="42918" t="17386" r="16905" b="44299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9760" y="428400"/>
            <a:ext cx="85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О благотворном влиянии музыки знали давно, еще в глубокой дре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Музыкотерапия для детей"/>
          <p:cNvPicPr/>
          <p:nvPr/>
        </p:nvPicPr>
        <p:blipFill>
          <a:blip r:embed="rId1"/>
          <a:stretch/>
        </p:blipFill>
        <p:spPr>
          <a:xfrm>
            <a:off x="2786040" y="2000160"/>
            <a:ext cx="3429000" cy="448956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2680" y="213840"/>
            <a:ext cx="63579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D:\Documents and Settings\Администратор\Рабочий стол\Мои документы\Работа ХР\РАБОТА 2009-2010\МУЗЫКОТЕРАПИЯ\Влиягние музыки на человека\м21.gif"/>
          <p:cNvPicPr/>
          <p:nvPr/>
        </p:nvPicPr>
        <p:blipFill>
          <a:blip r:embed="rId1"/>
          <a:stretch/>
        </p:blipFill>
        <p:spPr>
          <a:xfrm>
            <a:off x="1643040" y="571680"/>
            <a:ext cx="628668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6a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лияние музыки на человека объяс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здействием вибрации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:\Documents and Settings\Администратор\Рабочий стол\Мои документы\Работа ХР\РАБОТА 2009-2010\МУЗЫКОТЕРАПИЯ\Влиягние музыки на человека\м23.gif"/>
          <p:cNvPicPr/>
          <p:nvPr/>
        </p:nvPicPr>
        <p:blipFill>
          <a:blip r:embed="rId2"/>
          <a:stretch/>
        </p:blipFill>
        <p:spPr>
          <a:xfrm>
            <a:off x="2209680" y="1285920"/>
            <a:ext cx="525312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714240" y="28584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лассическая музыка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Администратор\Мои документы\Мои рисунки\рок\image02.jpg"/>
          <p:cNvPicPr/>
          <p:nvPr/>
        </p:nvPicPr>
        <p:blipFill>
          <a:blip r:embed="rId1"/>
          <a:srcRect l="0" t="0" r="16124" b="0"/>
          <a:stretch/>
        </p:blipFill>
        <p:spPr>
          <a:xfrm>
            <a:off x="142920" y="2214720"/>
            <a:ext cx="871524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433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f4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857160" y="407196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643800" y="35002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ром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2071800" y="5572080"/>
            <a:ext cx="514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дивидуальное 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Администратор\Мои документы\Мои рисунки\Музыка\music.jpg"/>
          <p:cNvPicPr/>
          <p:nvPr/>
        </p:nvPicPr>
        <p:blipFill>
          <a:blip r:embed="rId1"/>
          <a:srcRect l="0" t="7140" r="0" b="0"/>
          <a:stretch/>
        </p:blipFill>
        <p:spPr>
          <a:xfrm>
            <a:off x="3429000" y="2857680"/>
            <a:ext cx="2786040" cy="25873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81" name="Picture 5" descr="C:\Documents and Settings\Администратор\Мои документы\Мои рисунки\Музыка\kid-playing-piano.jpg"/>
          <p:cNvPicPr/>
          <p:nvPr/>
        </p:nvPicPr>
        <p:blipFill>
          <a:blip r:embed="rId2"/>
          <a:stretch/>
        </p:blipFill>
        <p:spPr>
          <a:xfrm>
            <a:off x="214200" y="1000080"/>
            <a:ext cx="3414960" cy="292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Администратор\Мои документы\Мои рисунки\1296.jpg"/>
          <p:cNvPicPr/>
          <p:nvPr/>
        </p:nvPicPr>
        <p:blipFill>
          <a:blip r:embed="rId3"/>
          <a:stretch/>
        </p:blipFill>
        <p:spPr>
          <a:xfrm>
            <a:off x="6429240" y="1357200"/>
            <a:ext cx="2498760" cy="1992600"/>
          </a:xfrm>
          <a:prstGeom prst="rect">
            <a:avLst/>
          </a:prstGeom>
          <a:ln w="19080">
            <a:solidFill>
              <a:srgbClr val="e46c0a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26:58Z</dcterms:modified>
  <cp:revision>57</cp:revision>
  <dc:subject/>
  <dc:title>Влияние музыки на состояние человека</dc:title>
</cp:coreProperties>
</file>